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CF43-C410-49E6-B15C-B0AA924E9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9F08-A546-4056-B375-402E464B83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llenge them:  How might the Kidwatching might be different from the kinds of things that they have seen in schools?  Think-Pair-Share  Make sure you talk about the specifics from the Owocki 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4122-B10A-41F9-BE2F-EFD908570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9AF-89AF-4C61-ADAE-90E7455B9C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8F4A-00F5-4D53-940B-8FB6ACABC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CFEE-8BD9-4078-8205-3ADFFFF3B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5F9-5BC5-465F-B49B-0427C23F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3D5-20CA-43C8-8257-561F6C5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5E2-A90A-457A-BFA0-74DCBE64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B2B-BE22-41DA-82DE-0C7B05BD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F1A8-F12F-41C1-87A7-B72A9547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5781-0DD0-4CD1-B80C-8A7B1F92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9219-0286-48E4-B528-10BD307A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000-F313-4ACC-8B93-9726BF10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DF68-3774-489C-8A53-3DB7A0A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A7CD-8C12-4506-A92F-D923CA42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6AC-5CED-4F4B-A20D-68FCC96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2F4-A7EC-481A-A037-3895B7D5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E917-C887-4485-8F31-24DA7A0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1D9-6E8E-4C2C-B2A5-AFEA72B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B437-DF32-4C25-A905-61D26760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8B7A-CE8E-4A05-909A-44024A11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D761-F6CC-4D90-92E3-FE565ACA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08F5-B07B-4EEB-9118-726A39E4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CEB4-4EBB-4B90-9B2B-A5A5896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CE89-3E0F-4F50-BE7B-95803FB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1725-8617-4FF4-8D6D-E433B5F4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8F8B-EE77-4958-96A8-359CF471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C35-B9FF-4AC0-8BCA-64B2F8A6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45D3-2907-4A2F-9A15-00BC8B59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B94B-2CC5-4717-989C-FB299564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3455-2140-4911-ADB5-DB2847A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512E-D6F4-4FF8-B09F-C4E21FC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CA2E-49E8-4425-AD20-85495A6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2D46-8357-4416-A969-4304513D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ED4B-CBA7-4672-8077-5A76D2D3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DDBA-5924-4935-A57A-48D8DDB2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A1C3F-2266-4616-BF04-8996F789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D000-348B-4197-9F3C-F9AFDBC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EC9-33D1-4F2C-8F72-787B3130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7090A-232F-4122-90FD-4A2B19D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128E-8448-44B7-8102-E1882EF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9276-7126-4676-BF24-4639ECA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0774-441E-4CE0-B67F-B831B25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A9B3-70D5-4F8F-ACB9-78DE1D7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599B-211F-40E6-B8E2-9FE5893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27C8-2652-4F41-96B4-4442918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1079-D849-47B5-8F74-001ECEB3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87A1-BB6C-4B46-8DBA-8F8E9668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BA0B5-B2CD-4145-B99F-E081E5AD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1C1-A19F-4C1A-A4B5-2394B7EA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13F0-7094-4405-AD6B-2A36362A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5E82-2177-4960-B02F-B299B20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892E-882F-4E12-A287-23E9154E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D07F-CE05-40AF-866B-E2EBABF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8200-C86F-4DFC-9E08-9658ED4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D158-C306-4833-AC96-9C566F7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38F0-0692-45AB-8306-13DA4C0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D9520-DAEA-4B9B-A6B6-AA0A14B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C5DCC-3220-4AE7-8A4F-E1F463EA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0D10-5F76-4588-8BE9-D6920E47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245-EF78-46AC-8F02-45720C67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635C-2678-4A58-AB3B-9F6C1AE6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141-8D0D-4E1F-BFAC-F4CDBD3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273-BF7C-42E9-BD38-B08FF15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BA5-9D32-4BCB-B68B-24ADE0A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25.xml"/><Relationship Id="rId24" Type="http://schemas.openxmlformats.org/officeDocument/2006/relationships/slideLayout" Target="../slideLayouts/slideLayout26.xml"/><Relationship Id="rId25" Type="http://schemas.openxmlformats.org/officeDocument/2006/relationships/slideLayout" Target="../slideLayouts/slideLayout27.xml"/><Relationship Id="rId26" Type="http://schemas.openxmlformats.org/officeDocument/2006/relationships/slideLayout" Target="../slideLayouts/slideLayout28.xml"/><Relationship Id="rId27" Type="http://schemas.openxmlformats.org/officeDocument/2006/relationships/slideLayout" Target="../slideLayouts/slideLayout29.xml"/><Relationship Id="rId28" Type="http://schemas.openxmlformats.org/officeDocument/2006/relationships/slideLayout" Target="../slideLayouts/slideLayout30.xml"/><Relationship Id="rId29" Type="http://schemas.openxmlformats.org/officeDocument/2006/relationships/slideLayout" Target="../slideLayouts/slideLayout31.xml"/><Relationship Id="rId30" Type="http://schemas.openxmlformats.org/officeDocument/2006/relationships/slideLayout" Target="../slideLayouts/slideLayout32.xml"/><Relationship Id="rId31" Type="http://schemas.openxmlformats.org/officeDocument/2006/relationships/slideLayout" Target="../slideLayouts/slideLayout33.xml"/><Relationship Id="rId32" Type="http://schemas.openxmlformats.org/officeDocument/2006/relationships/slideLayout" Target="../slideLayouts/slideLayout34.xml"/><Relationship Id="rId33" Type="http://schemas.openxmlformats.org/officeDocument/2006/relationships/slideLayout" Target="../slideLayouts/slideLayout35.xml"/><Relationship Id="rId3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7.xml"/><Relationship Id="rId24" Type="http://schemas.openxmlformats.org/officeDocument/2006/relationships/slideLayout" Target="../slideLayouts/slideLayout38.xml"/><Relationship Id="rId25" Type="http://schemas.openxmlformats.org/officeDocument/2006/relationships/slideLayout" Target="../slideLayouts/slideLayout39.xml"/><Relationship Id="rId26" Type="http://schemas.openxmlformats.org/officeDocument/2006/relationships/slideLayout" Target="../slideLayouts/slideLayout40.xml"/><Relationship Id="rId27" Type="http://schemas.openxmlformats.org/officeDocument/2006/relationships/slideLayout" Target="../slideLayouts/slideLayout41.xml"/><Relationship Id="rId28" Type="http://schemas.openxmlformats.org/officeDocument/2006/relationships/slideLayout" Target="../slideLayouts/slideLayout42.xml"/><Relationship Id="rId29" Type="http://schemas.openxmlformats.org/officeDocument/2006/relationships/slideLayout" Target="../slideLayouts/slideLayout43.xml"/><Relationship Id="rId30" Type="http://schemas.openxmlformats.org/officeDocument/2006/relationships/slideLayout" Target="../slideLayouts/slideLayout44.xml"/><Relationship Id="rId31" Type="http://schemas.openxmlformats.org/officeDocument/2006/relationships/slideLayout" Target="../slideLayouts/slideLayout45.xml"/><Relationship Id="rId32" Type="http://schemas.openxmlformats.org/officeDocument/2006/relationships/slideLayout" Target="../slideLayouts/slideLayout46.xml"/><Relationship Id="rId33" Type="http://schemas.openxmlformats.org/officeDocument/2006/relationships/slideLayout" Target="../slideLayouts/slideLayout47.xml"/><Relationship Id="rId3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49.xml"/><Relationship Id="rId24" Type="http://schemas.openxmlformats.org/officeDocument/2006/relationships/slideLayout" Target="../slideLayouts/slideLayout50.xml"/><Relationship Id="rId25" Type="http://schemas.openxmlformats.org/officeDocument/2006/relationships/slideLayout" Target="../slideLayouts/slideLayout51.xml"/><Relationship Id="rId26" Type="http://schemas.openxmlformats.org/officeDocument/2006/relationships/slideLayout" Target="../slideLayouts/slideLayout52.xml"/><Relationship Id="rId27" Type="http://schemas.openxmlformats.org/officeDocument/2006/relationships/slideLayout" Target="../slideLayouts/slideLayout53.xml"/><Relationship Id="rId28" Type="http://schemas.openxmlformats.org/officeDocument/2006/relationships/slideLayout" Target="../slideLayouts/slideLayout54.xml"/><Relationship Id="rId29" Type="http://schemas.openxmlformats.org/officeDocument/2006/relationships/slideLayout" Target="../slideLayouts/slideLayout55.xml"/><Relationship Id="rId30" Type="http://schemas.openxmlformats.org/officeDocument/2006/relationships/slideLayout" Target="../slideLayouts/slideLayout56.xml"/><Relationship Id="rId31" Type="http://schemas.openxmlformats.org/officeDocument/2006/relationships/slideLayout" Target="../slideLayouts/slideLayout57.xml"/><Relationship Id="rId32" Type="http://schemas.openxmlformats.org/officeDocument/2006/relationships/slideLayout" Target="../slideLayouts/slideLayout58.xml"/><Relationship Id="rId33" Type="http://schemas.openxmlformats.org/officeDocument/2006/relationships/slideLayout" Target="../slideLayouts/slideLayout59.xml"/><Relationship Id="rId3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8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4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7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3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3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0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1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3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6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6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7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68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69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0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74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5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78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9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8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8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066F-397E-4CB2-B593-84EF58A794EA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129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13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13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39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4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14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152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15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15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162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1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16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175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176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177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182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18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18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9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2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193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194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5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199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0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20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4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20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7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0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09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0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EF7F-5DAE-4BD4-B284-DFF66B3B7BC6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254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256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257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25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26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26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27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7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80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28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5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290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29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29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303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304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305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06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310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1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31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31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8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1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20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321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32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3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32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8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33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2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33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5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3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337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DED-53F8-4DD1-9A0A-D6CD17D8D736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3"/>
    <p:sldLayoutId id="2147483676" r:id="rId24"/>
    <p:sldLayoutId id="2147483677" r:id="rId25"/>
    <p:sldLayoutId id="2147483678" r:id="rId26"/>
    <p:sldLayoutId id="2147483679" r:id="rId27"/>
    <p:sldLayoutId id="2147483680" r:id="rId28"/>
    <p:sldLayoutId id="2147483681" r:id="rId29"/>
    <p:sldLayoutId id="2147483682" r:id="rId30"/>
    <p:sldLayoutId id="2147483683" r:id="rId31"/>
    <p:sldLayoutId id="2147483684" r:id="rId32"/>
    <p:sldLayoutId id="2147483685" r:id="rId33"/>
    <p:sldLayoutId id="2147483686" r:id="rId3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382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84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385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38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38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395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39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40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408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40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41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418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2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25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431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432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433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4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438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44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3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445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6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4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48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449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450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455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45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0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46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3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6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6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97F2-242F-4051-96E9-6F7E4AE659EB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3"/>
    <p:sldLayoutId id="2147483689" r:id="rId24"/>
    <p:sldLayoutId id="2147483690" r:id="rId25"/>
    <p:sldLayoutId id="2147483691" r:id="rId26"/>
    <p:sldLayoutId id="2147483692" r:id="rId27"/>
    <p:sldLayoutId id="2147483693" r:id="rId28"/>
    <p:sldLayoutId id="2147483694" r:id="rId29"/>
    <p:sldLayoutId id="2147483695" r:id="rId30"/>
    <p:sldLayoutId id="2147483696" r:id="rId31"/>
    <p:sldLayoutId id="2147483697" r:id="rId32"/>
    <p:sldLayoutId id="2147483698" r:id="rId33"/>
    <p:sldLayoutId id="2147483699" r:id="rId3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510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512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513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1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51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523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52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8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53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1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53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54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546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55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55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4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59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61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2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66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7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57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1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57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4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7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6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577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578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9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583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4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58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8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59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1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9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59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3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3AF4-E151-49D2-BF90-91E7F5FF0F85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3"/>
    <p:sldLayoutId id="2147483702" r:id="rId24"/>
    <p:sldLayoutId id="2147483703" r:id="rId25"/>
    <p:sldLayoutId id="2147483704" r:id="rId26"/>
    <p:sldLayoutId id="2147483705" r:id="rId27"/>
    <p:sldLayoutId id="2147483706" r:id="rId28"/>
    <p:sldLayoutId id="2147483707" r:id="rId29"/>
    <p:sldLayoutId id="2147483708" r:id="rId30"/>
    <p:sldLayoutId id="2147483709" r:id="rId31"/>
    <p:sldLayoutId id="2147483710" r:id="rId32"/>
    <p:sldLayoutId id="2147483711" r:id="rId33"/>
    <p:sldLayoutId id="2147483712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Title 1"/>
          <p:cNvGrpSpPr/>
          <p:nvPr/>
        </p:nvGrpSpPr>
        <p:grpSpPr>
          <a:xfrm>
            <a:off x="1596960" y="457200"/>
            <a:ext cx="7182000" cy="2670120"/>
            <a:chOff x="1596960" y="457200"/>
            <a:chExt cx="7182000" cy="2670120"/>
          </a:xfrm>
        </p:grpSpPr>
        <p:pic>
          <p:nvPicPr>
            <p:cNvPr id="645" name="Title 1" descr=""/>
            <p:cNvPicPr/>
            <p:nvPr/>
          </p:nvPicPr>
          <p:blipFill>
            <a:blip r:embed="rId1"/>
            <a:stretch/>
          </p:blipFill>
          <p:spPr>
            <a:xfrm>
              <a:off x="1596960" y="457200"/>
              <a:ext cx="7182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1676520" y="533520"/>
              <a:ext cx="702144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Beyond the Basal: The Nature and Scope of Assessment and Planning the Literacy Bloc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Subtitle 2"/>
          <p:cNvGrpSpPr/>
          <p:nvPr/>
        </p:nvGrpSpPr>
        <p:grpSpPr>
          <a:xfrm>
            <a:off x="2127240" y="3352680"/>
            <a:ext cx="6559560" cy="3054600"/>
            <a:chOff x="2127240" y="3352680"/>
            <a:chExt cx="6559560" cy="3054600"/>
          </a:xfrm>
        </p:grpSpPr>
        <p:pic>
          <p:nvPicPr>
            <p:cNvPr id="648" name="Subtitle 2" descr=""/>
            <p:cNvPicPr/>
            <p:nvPr/>
          </p:nvPicPr>
          <p:blipFill>
            <a:blip r:embed="rId2"/>
            <a:stretch/>
          </p:blipFill>
          <p:spPr>
            <a:xfrm>
              <a:off x="2127240" y="3352680"/>
              <a:ext cx="6559560" cy="30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203560" y="3429000"/>
              <a:ext cx="6400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an adult assumes to be erroneous often reflects development in a child. Children’s expressions of language, or inventions, reflect their current schemas, or working models for how language works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- Owocki &amp; Goodman (200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Rectangle 2"/>
          <p:cNvGrpSpPr/>
          <p:nvPr/>
        </p:nvGrpSpPr>
        <p:grpSpPr>
          <a:xfrm>
            <a:off x="1066680" y="378000"/>
            <a:ext cx="7851960" cy="1225440"/>
            <a:chOff x="1066680" y="378000"/>
            <a:chExt cx="7851960" cy="1225440"/>
          </a:xfrm>
        </p:grpSpPr>
        <p:pic>
          <p:nvPicPr>
            <p:cNvPr id="726" name="Rectangle 2" descr=""/>
            <p:cNvPicPr/>
            <p:nvPr/>
          </p:nvPicPr>
          <p:blipFill>
            <a:blip r:embed="rId1"/>
            <a:stretch/>
          </p:blipFill>
          <p:spPr>
            <a:xfrm>
              <a:off x="1066680" y="378000"/>
              <a:ext cx="78519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1143000" y="457200"/>
              <a:ext cx="76960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“</a:t>
              </a: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Kidwatching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Rectangle 3"/>
          <p:cNvGrpSpPr/>
          <p:nvPr/>
        </p:nvGrpSpPr>
        <p:grpSpPr>
          <a:xfrm>
            <a:off x="530280" y="1901880"/>
            <a:ext cx="8083440" cy="4505400"/>
            <a:chOff x="530280" y="1901880"/>
            <a:chExt cx="8083440" cy="4505400"/>
          </a:xfrm>
        </p:grpSpPr>
        <p:pic>
          <p:nvPicPr>
            <p:cNvPr id="729" name="Rectangle 3" descr=""/>
            <p:cNvPicPr/>
            <p:nvPr/>
          </p:nvPicPr>
          <p:blipFill>
            <a:blip r:embed="rId2"/>
            <a:stretch/>
          </p:blipFill>
          <p:spPr>
            <a:xfrm>
              <a:off x="530280" y="1901880"/>
              <a:ext cx="808344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09480" y="1981080"/>
              <a:ext cx="792504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Building an insider view of the commun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Understanding how lang. &amp; lit. develo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Organizing a rich environment for lear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Interacting with childr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Observing and documenting children’s knowled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Analyzing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Fostering children’s self-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Engaging in self-evaluation of teach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Using evaluation to inform instr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2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Kidwatching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3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How would you describe 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Kidwatching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are the benefit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are the pitfalls? (What must teachers consider with this approach to assessment?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tools can teachers use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How is the data used and communicated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8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How Are you Assessing I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41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Consider the assessments  you are using to assess the various literacy process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Analyze the assessments using the Keys to Quality Assessmen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Complete the chart t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Is there one process that seems to be assessed more than other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Are you lacking assessments in other area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Title 1"/>
          <p:cNvGrpSpPr/>
          <p:nvPr/>
        </p:nvGrpSpPr>
        <p:grpSpPr>
          <a:xfrm>
            <a:off x="762120" y="530280"/>
            <a:ext cx="7626240" cy="1000080"/>
            <a:chOff x="762120" y="530280"/>
            <a:chExt cx="7626240" cy="1000080"/>
          </a:xfrm>
        </p:grpSpPr>
        <p:pic>
          <p:nvPicPr>
            <p:cNvPr id="744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38080" y="609480"/>
              <a:ext cx="7470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Literacy Proc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Content Placeholder 2"/>
          <p:cNvGrpSpPr/>
          <p:nvPr/>
        </p:nvGrpSpPr>
        <p:grpSpPr>
          <a:xfrm>
            <a:off x="609480" y="1371600"/>
            <a:ext cx="7991640" cy="4883040"/>
            <a:chOff x="609480" y="1371600"/>
            <a:chExt cx="7991640" cy="4883040"/>
          </a:xfrm>
        </p:grpSpPr>
        <p:pic>
          <p:nvPicPr>
            <p:cNvPr id="74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799164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685800" y="1447920"/>
              <a:ext cx="783576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are you assessing the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Language and vocabulary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Phonological aware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Phon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ord identific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Emergent text concepts (Concepts About Pri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Oral reading and fl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Reading and listening comprehension  (Consider all of the comprehension skills we have discuss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r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Other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Title 1"/>
          <p:cNvGrpSpPr/>
          <p:nvPr/>
        </p:nvGrpSpPr>
        <p:grpSpPr>
          <a:xfrm>
            <a:off x="762120" y="530280"/>
            <a:ext cx="7626240" cy="1073160"/>
            <a:chOff x="762120" y="530280"/>
            <a:chExt cx="7626240" cy="1073160"/>
          </a:xfrm>
        </p:grpSpPr>
        <p:pic>
          <p:nvPicPr>
            <p:cNvPr id="750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838080" y="609480"/>
              <a:ext cx="7470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Planning your Literacy Bloc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Content Placeholder 2"/>
          <p:cNvGrpSpPr/>
          <p:nvPr/>
        </p:nvGrpSpPr>
        <p:grpSpPr>
          <a:xfrm>
            <a:off x="762120" y="1444680"/>
            <a:ext cx="7626240" cy="4761000"/>
            <a:chOff x="762120" y="1444680"/>
            <a:chExt cx="7626240" cy="4761000"/>
          </a:xfrm>
        </p:grpSpPr>
        <p:pic>
          <p:nvPicPr>
            <p:cNvPr id="753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444680"/>
              <a:ext cx="762624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838080" y="1523880"/>
              <a:ext cx="746784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How can you incorporate new ideas into your literacy block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Create a Diigo for a unit of stud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Set up your class blog or wik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Explore critical literacy lesson plans (readwritethink.org is a fabulous star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Plan how and when you will incorporate Inquiry into your yea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Explore some other web tools we didn’t have a chance to use (see Day #2 PowerPoint on our class Wiki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77933c"/>
                  </a:solidFill>
                  <a:latin typeface="Comic Sans MS"/>
                </a:rPr>
                <a:t>We’ll meet back for lunch at 11:4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oday’s Cla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5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escribe the Keys to Quality Assessmen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Analyze our classroom assessment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escribe and discuss 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Kidwatching 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approach to assessmen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Plan for incorporating new ideas into your existing  literacy progra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Final meeting for Inquiry Groups- plan what information you would like to share with the group on Thursday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-Alou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6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Read Aloud: 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Hooray for Diffendoofer Day,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by Jack Pretlusky and Dr. Sues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hink/Pair/Sha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Content Placeholder 2"/>
          <p:cNvGrpSpPr/>
          <p:nvPr/>
        </p:nvGrpSpPr>
        <p:grpSpPr>
          <a:xfrm>
            <a:off x="457200" y="1676520"/>
            <a:ext cx="8217000" cy="4035240"/>
            <a:chOff x="457200" y="1676520"/>
            <a:chExt cx="8217000" cy="4035240"/>
          </a:xfrm>
        </p:grpSpPr>
        <p:pic>
          <p:nvPicPr>
            <p:cNvPr id="66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7200" y="1676520"/>
              <a:ext cx="821700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533520" y="1752480"/>
              <a:ext cx="8064360" cy="38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Think of a time you when you were “assessed.” Either a positive experience or not-so-positive experienc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happened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How did the experience make you fee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Share your story with an elbow partn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If you would like, share your story with the whole group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What is Assessment?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7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The process of gathering quantitative and qualitative data about the attributes of student learning through tests, observations, work samples and other means (</a:t>
              </a: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Diagnostic Literacy Assessment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, p.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The process to gather information to monitor progress and make educational decisions (</a:t>
              </a: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Reading Assessment Handbook, 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p.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Rectangle 2"/>
          <p:cNvGrpSpPr/>
          <p:nvPr/>
        </p:nvGrpSpPr>
        <p:grpSpPr>
          <a:xfrm>
            <a:off x="378000" y="835200"/>
            <a:ext cx="8235720" cy="1000080"/>
            <a:chOff x="378000" y="835200"/>
            <a:chExt cx="8235720" cy="1000080"/>
          </a:xfrm>
        </p:grpSpPr>
        <p:pic>
          <p:nvPicPr>
            <p:cNvPr id="675" name="Rectangle 2" descr=""/>
            <p:cNvPicPr/>
            <p:nvPr/>
          </p:nvPicPr>
          <p:blipFill>
            <a:blip r:embed="rId1"/>
            <a:stretch/>
          </p:blipFill>
          <p:spPr>
            <a:xfrm>
              <a:off x="378000" y="835200"/>
              <a:ext cx="8235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57200" y="9144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ssessment Cyc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7"/>
          <p:cNvSpPr/>
          <p:nvPr/>
        </p:nvSpPr>
        <p:spPr>
          <a:xfrm>
            <a:off x="2362320" y="2133720"/>
            <a:ext cx="449568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8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070360" cy="13701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9"/>
          <p:cNvSpPr/>
          <p:nvPr/>
        </p:nvSpPr>
        <p:spPr>
          <a:xfrm rot="21572400">
            <a:off x="3731400" y="1828800"/>
            <a:ext cx="1779480" cy="10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0"/>
          <p:cNvSpPr/>
          <p:nvPr/>
        </p:nvSpPr>
        <p:spPr>
          <a:xfrm rot="20410800">
            <a:off x="5867280" y="2362320"/>
            <a:ext cx="17798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 and analyze assess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 rot="21572400">
            <a:off x="6092640" y="3503160"/>
            <a:ext cx="2514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and sift data within assess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 rot="1745400">
            <a:off x="5790600" y="510516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patterns: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 rot="21572400">
            <a:off x="3123720" y="5638680"/>
            <a:ext cx="277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nd prioritize instruction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 rot="19662600">
            <a:off x="991440" y="4800240"/>
            <a:ext cx="2313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instructional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 rot="21572400">
            <a:off x="685800" y="373392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6"/>
          <p:cNvSpPr/>
          <p:nvPr/>
        </p:nvSpPr>
        <p:spPr>
          <a:xfrm rot="1773000">
            <a:off x="2056680" y="2742840"/>
            <a:ext cx="106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 flipH="1">
            <a:off x="2666880" y="2514600"/>
            <a:ext cx="3200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8"/>
          <p:cNvSpPr/>
          <p:nvPr/>
        </p:nvSpPr>
        <p:spPr>
          <a:xfrm flipH="1" flipV="1">
            <a:off x="2666520" y="4114440"/>
            <a:ext cx="35816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3"/>
          <p:cNvSpPr/>
          <p:nvPr/>
        </p:nvSpPr>
        <p:spPr>
          <a:xfrm>
            <a:off x="655308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633-5106-4241-814C-3D4E6BB75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2"/>
          <p:cNvSpPr/>
          <p:nvPr/>
        </p:nvSpPr>
        <p:spPr>
          <a:xfrm>
            <a:off x="380880" y="4373640"/>
            <a:ext cx="84582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1"/>
          <p:cNvSpPr/>
          <p:nvPr/>
        </p:nvSpPr>
        <p:spPr>
          <a:xfrm>
            <a:off x="152280" y="868320"/>
            <a:ext cx="88394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0"/>
          <p:cNvSpPr/>
          <p:nvPr/>
        </p:nvSpPr>
        <p:spPr>
          <a:xfrm>
            <a:off x="3352680" y="928800"/>
            <a:ext cx="23623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29"/>
          <p:cNvSpPr/>
          <p:nvPr/>
        </p:nvSpPr>
        <p:spPr>
          <a:xfrm>
            <a:off x="2743200" y="2362320"/>
            <a:ext cx="3581280" cy="2209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28"/>
          <p:cNvSpPr/>
          <p:nvPr/>
        </p:nvSpPr>
        <p:spPr>
          <a:xfrm>
            <a:off x="5257800" y="944640"/>
            <a:ext cx="3581280" cy="1904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27"/>
          <p:cNvSpPr/>
          <p:nvPr/>
        </p:nvSpPr>
        <p:spPr>
          <a:xfrm>
            <a:off x="228600" y="944640"/>
            <a:ext cx="3581280" cy="1904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1143000" y="1249200"/>
            <a:ext cx="19810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Why Asse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1371600" y="0"/>
            <a:ext cx="662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Keys To Qu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Taken from: </a:t>
            </a:r>
            <a:r>
              <a:rPr b="1" i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Classroom</a:t>
            </a:r>
            <a:r>
              <a:rPr b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i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Assessment FOR Learning, </a:t>
            </a:r>
            <a:r>
              <a:rPr b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Stiggins, et al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4"/>
          <p:cNvSpPr/>
          <p:nvPr/>
        </p:nvSpPr>
        <p:spPr>
          <a:xfrm>
            <a:off x="2286000" y="254484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533520" y="1690560"/>
            <a:ext cx="297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 the purpose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 will use the 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2"/>
          <p:cNvSpPr/>
          <p:nvPr/>
        </p:nvSpPr>
        <p:spPr>
          <a:xfrm>
            <a:off x="6246360" y="1233360"/>
            <a:ext cx="19350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Assess Wha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1"/>
          <p:cNvSpPr/>
          <p:nvPr/>
        </p:nvSpPr>
        <p:spPr>
          <a:xfrm>
            <a:off x="3581280" y="2590920"/>
            <a:ext cx="1893960" cy="76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Assess Ho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0"/>
          <p:cNvSpPr/>
          <p:nvPr/>
        </p:nvSpPr>
        <p:spPr>
          <a:xfrm>
            <a:off x="2819520" y="4678200"/>
            <a:ext cx="3581280" cy="1905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9"/>
          <p:cNvSpPr/>
          <p:nvPr/>
        </p:nvSpPr>
        <p:spPr>
          <a:xfrm>
            <a:off x="3433680" y="5043600"/>
            <a:ext cx="2614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Communicate How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5329440" y="1690560"/>
            <a:ext cx="330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 are the learning targets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 they clear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 they 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7"/>
          <p:cNvSpPr/>
          <p:nvPr/>
        </p:nvSpPr>
        <p:spPr>
          <a:xfrm>
            <a:off x="3594240" y="3276720"/>
            <a:ext cx="2039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 method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d how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 bias how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6"/>
          <p:cNvSpPr/>
          <p:nvPr/>
        </p:nvSpPr>
        <p:spPr>
          <a:xfrm>
            <a:off x="3031560" y="5592600"/>
            <a:ext cx="324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 to manage information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 to re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H="1">
            <a:off x="5715000" y="26208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3"/>
          <p:cNvSpPr/>
          <p:nvPr/>
        </p:nvSpPr>
        <p:spPr>
          <a:xfrm>
            <a:off x="4572000" y="4297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6705720" y="6262560"/>
            <a:ext cx="2057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533520" y="4540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 are users, 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457200" y="5440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 track progress and commun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6095880" y="45705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 sure students understand 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6477120" y="5364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 can participate in the assess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7"/>
          <p:cNvSpPr/>
          <p:nvPr/>
        </p:nvSpPr>
        <p:spPr>
          <a:xfrm flipH="1">
            <a:off x="1523520" y="2849400"/>
            <a:ext cx="30492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 flipH="1">
            <a:off x="2286000" y="59738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7238880" y="28494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>
            <a:off x="5257800" y="414504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1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rticle Discuss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2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Read and discuss 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Balancing Assessment </a:t>
              </a:r>
              <a:r>
                <a:rPr b="1" i="1" lang="en-US" sz="3200" spc="-1" strike="noStrike">
                  <a:solidFill>
                    <a:srgbClr val="77933c"/>
                  </a:solidFill>
                  <a:latin typeface="Comic Sans MS"/>
                </a:rPr>
                <a:t>Of 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Learning and </a:t>
              </a:r>
              <a:r>
                <a:rPr b="1" i="1" lang="en-US" sz="3200" spc="-1" strike="noStrike">
                  <a:solidFill>
                    <a:srgbClr val="77933c"/>
                  </a:solidFill>
                  <a:latin typeface="Comic Sans MS"/>
                </a:rPr>
                <a:t>For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 Learning in Support of Student’s Literacy Achiev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1828800" y="0"/>
          <a:ext cx="6095880" cy="6838920"/>
        </p:xfrm>
        <a:graphic>
          <a:graphicData uri="http://schemas.openxmlformats.org/drawingml/2006/table">
            <a:tbl>
              <a:tblPr/>
              <a:tblGrid>
                <a:gridCol w="1171440"/>
                <a:gridCol w="2675160"/>
                <a:gridCol w="2249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ment FOR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ment OF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s for Ass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te increases in student achievement to help students meet more standards, support ongoing growth; 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individual or group achievement or mastery of standards; measure achievement at a point in time for the purposes of reporting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bout themsel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 about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i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rocess during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event after the instruction has taken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, Teachers, Par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, Teachers, Parents, Administrators, Program Planners, Policy Ma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’s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 students of learning outcomes, adjust instruction based on results, offer descrip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er the test accurately, use results to help students meet outcomes, interpret results for parents, build assessments for report card gr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’s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Assess, contribute to setting goals, act on classroom assessment results to impr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y material, take the test, strive for the highest possible score, avoid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Motiv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 that success in learning is achievab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01:53Z</dcterms:created>
  <dc:creator> </dc:creator>
  <dc:description/>
  <dc:language>en-US</dc:language>
  <cp:lastModifiedBy>Authorized User</cp:lastModifiedBy>
  <dcterms:modified xsi:type="dcterms:W3CDTF">2010-07-06T15:41:52Z</dcterms:modified>
  <cp:revision>46</cp:revision>
  <dc:subject/>
  <dc:title>C&amp;I 222: The Nature and Scope of Assess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3211033</vt:lpwstr>
  </property>
</Properties>
</file>